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8FB-83A3-4ADB-A0B9-37210D8E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C32-2590-469D-A8B6-258F5C91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37A-2247-4D65-BD58-0CEBB0F9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1F2-817C-4F6F-843D-8D55EA62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349-2AE4-4CD6-839B-95238136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8C31-F518-43C4-B875-135381DD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EDB-B255-427C-B050-BCA4733D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674-833A-491F-89D4-BF7EAD24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D30-53F9-4C28-B721-73E84B61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C31-7BCC-46E2-BF02-302011EE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3B2-750A-4331-BC0A-8EF0F673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F3C-D878-4C6C-9F70-4A19E79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F3C3-297C-4CD5-B607-6C10433CE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ffffcc">
              <a:alpha val="7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 Mytholog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Lightning Thie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Rick Ri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210120" cy="4809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1676520"/>
            <a:ext cx="338148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96880"/>
            <a:ext cx="48006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re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attle of the Gods and Titans (Titanomoch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hree F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hree Furies (the Kindly On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us and the Minot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y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ony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ron the Centa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mphs and Nai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lympian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rriage of Zeus and H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arden of the Hesper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ei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ivision of the world by Zeus, Poseidon and H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Slays the Pyth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racle at Delp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596880"/>
            <a:ext cx="41148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the City of Athens got its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org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eus and Med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od 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emean 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hon and Echi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lerophon and the Chi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achne and the Weaving Con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s and Aphrod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arriage of Hephaestus and Aphrod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nd of the Lotus Eaters (from the Odyss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rojan 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us’ Journey to Athens (Procrustes the Stretc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ph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cules and Cerbe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on the Ferryman &amp; the Gates of the Under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.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der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e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yths Related to the Novel (by chap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4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5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ill use multimedia to create a presentation summarizing a myth and pointing out the key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400800" y="3733920"/>
            <a:ext cx="253836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25560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62320" y="1676520"/>
            <a:ext cx="4038480" cy="314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2743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sei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48769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hi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rach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unit 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09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 provided with an overview of Greek mythology and the important role it played in that ancient civil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2193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 assigned a my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16765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 the myth and use graphic organizers to find key elements such as setting, characters, characterization, setting, theme, plot, and natural phenomenon explained in the my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590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ose Power Point, Movie Maker, or Photo Story 3 to create their presen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2767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appropriate images to create their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36576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 out their presen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0384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d appropriate audio and or visual effects for their pres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724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the presen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51055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pare a note-taking guide for the class and five questions about their my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71500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t their myths to the class with appropriate no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GSEs/GLEs and Technology Goals We Will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6858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–8–2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response to liter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informational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 te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students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how understanding of plot/ideas/concep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–8–2.1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Selecting and summarizing key ide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set contex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–8–4</a:t>
            </a:r>
            <a:br>
              <a:rPr sz="1600"/>
            </a:b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emonstr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itial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understanding of elements of literary tex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…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–8–4.1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dentify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describing character(s), setting, problem/solution, or plots/subplo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s appropriate to text; or identifying any significant changes in character or setting over time; or identifying rising action, climax, or falling a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–8–4.2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Paraphrasing or summarizing key ideas/pl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ith major events sequenced, as appropriate to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Educational Technology Standards (NETS•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Performance Indicators for Stud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reativity and Inno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demonstrate creative thinking, construct knowledge, and develop innovative products and processes using technolo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pply existing knowledge to generate new ideas, products, or proces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create original works as a means of personal or group expr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23:36:31Z</dcterms:created>
  <dc:creator>mom</dc:creator>
  <dc:description/>
  <dc:language>en-US</dc:language>
  <cp:lastModifiedBy>Administrator</cp:lastModifiedBy>
  <dcterms:modified xsi:type="dcterms:W3CDTF">2009-07-16T17:14:34Z</dcterms:modified>
  <cp:revision>7</cp:revision>
  <dc:subject/>
  <dc:title>Greek Mythology and The Lightning Thief by Rick Riordan</dc:title>
</cp:coreProperties>
</file>